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2B56-86A4-4712-989E-366BB432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F32F-6436-4091-A25D-F3ECCF01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5FEB-DDAA-41FF-99D9-ED0E840D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5F3B-ED8F-4BA3-805B-7C25AF0B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C4DD-E1D8-4709-9317-8753DD17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9464-9141-4358-B7EE-2F13ED6F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0C18-6AC5-47BA-A367-21AD5624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3824-0898-45F0-BA5E-972ADD76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EAA6-43D5-42F8-AED7-5D05A38F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93D8-3550-48CE-B6B3-BB4BFFF2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17E1-3AF5-4FF7-B96F-5BA7D7CB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D2E7-FBB7-40D8-84FD-10C65968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EEFC-3CE0-45CA-B217-2F87499EC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H01691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2743200"/>
            <a:ext cx="3090600" cy="198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71800" y="3048120"/>
            <a:ext cx="259092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tt LO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étective Pri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a Discrétion en p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ntactez-moi au 06-57-35-54-78 ou au 01-43-13-70-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2743200"/>
            <a:ext cx="32004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16:36:37Z</dcterms:created>
  <dc:creator>Pavilion Notebook User</dc:creator>
  <dc:description/>
  <dc:language>en-US</dc:language>
  <cp:lastModifiedBy>austin powers</cp:lastModifiedBy>
  <dcterms:modified xsi:type="dcterms:W3CDTF">2002-05-27T20:40:22Z</dcterms:modified>
  <cp:revision>4</cp:revision>
  <dc:subject/>
  <dc:title>Présentation PowerPoint</dc:title>
</cp:coreProperties>
</file>